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67C2F4-F780-49BF-8AD0-7688F824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text searching in combination with other parameters makes finding papers much eas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ither ‘circadian rhythm’ nor ‘photomorphogenesis’ is in title or abstract, they are in the full text.  This is a powerful way to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56D-3490-4038-A898-234BE30D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8EC-C405-4F8A-90EA-4EF97C82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234-EA3D-4054-991B-0C19B6A1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F23-A014-4733-9448-4B709675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D56-F32D-4C62-B96C-CE48676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0B2-EF13-4DCB-9951-DAD8C40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E03-C884-4C4F-B6F2-722ECF69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3AA-4DBC-4E72-AFA6-1868431E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441-C41D-4E6D-AEE5-A2F20F63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3823-EE4D-40C4-9290-055D4A24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07C-AFCB-4447-92B8-9900DA1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E6B-B637-4A2B-859C-202982E3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D9A9-CA7C-48E9-B7E6-6D4D05BD7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ny Yoo, Iris Xu, Behzad Mah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096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908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tair-lit-curation" descr=""/>
          <p:cNvPicPr/>
          <p:nvPr/>
        </p:nvPicPr>
        <p:blipFill>
          <a:blip r:embed="rId1"/>
          <a:srcRect l="6148" t="6381" r="37136" b="41306"/>
          <a:stretch/>
        </p:blipFill>
        <p:spPr>
          <a:xfrm>
            <a:off x="152280" y="746280"/>
            <a:ext cx="8839440" cy="6111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86120" y="9036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Sesarch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4495680"/>
            <a:ext cx="236232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9640" y="4495680"/>
            <a:ext cx="274320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ject te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5943600"/>
            <a:ext cx="2438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0" idx="2"/>
            <a:endCxn id="72" idx="1"/>
          </p:cNvCxnSpPr>
          <p:nvPr/>
        </p:nvCxnSpPr>
        <p:spPr>
          <a:xfrm flipH="1" rot="16200000">
            <a:off x="1676160" y="4762080"/>
            <a:ext cx="125820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1" idx="2"/>
            <a:endCxn id="72" idx="3"/>
          </p:cNvCxnSpPr>
          <p:nvPr/>
        </p:nvCxnSpPr>
        <p:spPr>
          <a:xfrm rot="5400000">
            <a:off x="5935680" y="4731480"/>
            <a:ext cx="1258200" cy="18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0" idx="3"/>
            <a:endCxn id="71" idx="1"/>
          </p:cNvCxnSpPr>
          <p:nvPr/>
        </p:nvCxnSpPr>
        <p:spPr>
          <a:xfrm>
            <a:off x="2590920" y="4762080"/>
            <a:ext cx="3529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504600" y="692280"/>
            <a:ext cx="185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s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sub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3962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3597120"/>
            <a:ext cx="29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ecula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ve 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06360" y="76320"/>
            <a:ext cx="675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lying Logic of PubSearch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7720" y="548640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3960" y="5410080"/>
            <a:ext cx="11836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876920"/>
            <a:ext cx="9306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cently Added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installation package (0.5) that includes Java Swing-based installer, bulk XML loaders for CVs, articles, and genes, stand-alone db schema, samp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user interfaces and rehauled underlying software (Java classes and servlets) for 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text search engine (Apache’s Lucen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le, germplasm, and phenotype cu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agate annot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0 new relationship types (now ~30 in total) handling Gene-to-Gene and Gene-to-Term anno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rotein modified with, has protein-RNA interaction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 schema implemented in MySQL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ts of bug fixes, code-clean up, and unit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Usage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data objects from the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done in data-object centric m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data objects handled: genes (at the transcript level), 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</a:rPr>
              <a:t>alleles, germpla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relationships handled: gene2term, gene2g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new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IR Installation Statistics (9/12/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272 literatur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20 research papers with abs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642 full-text papers (5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,956 controlled vocabulary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5,671 hits between terms and articles (2359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,010 gen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,841 hits between genes and articles (4268 ge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,943 hits valida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% valid, 29% not valid, 0.5% mayb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,497 manual annotations to 5981 genes from 2113 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 relationship types for gene2term and gene2g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3 eviden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81080" y="304920"/>
          <a:ext cx="5067360" cy="62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920"/>
                    <a:ext cx="5067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Search Status from RG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on 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s, Literature loaded from R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lighted certain dependencies on TAI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generic loading scripts developed by T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generation between articles and ontology terms (GO) functioning, still resolving Gene-Article matching and certain user interface issues related to loading non-TAIR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coming wor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ing new Generic PubSearch and loading scripts then testing with RGD curation sta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PubFetch BioMOBY webservice to Pub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 PubSearch on Ora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295280" y="0"/>
            <a:ext cx="6629400" cy="6857640"/>
            <a:chOff x="1295280" y="0"/>
            <a:chExt cx="6629400" cy="68576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rcRect l="16876" t="5001" r="19376" b="8332"/>
            <a:stretch/>
          </p:blipFill>
          <p:spPr>
            <a:xfrm>
              <a:off x="1295280" y="0"/>
              <a:ext cx="6629400" cy="614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rcRect l="16876" t="74169" r="19376" b="11667"/>
            <a:stretch/>
          </p:blipFill>
          <p:spPr>
            <a:xfrm>
              <a:off x="1295280" y="5852880"/>
              <a:ext cx="6629400" cy="1004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876" t="7501" r="13749" b="10832"/>
          <a:stretch/>
        </p:blipFill>
        <p:spPr>
          <a:xfrm>
            <a:off x="1066680" y="333360"/>
            <a:ext cx="7391520" cy="652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2362320"/>
            <a:ext cx="251460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4114800"/>
            <a:ext cx="2133360" cy="4572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16876" t="14998" r="13749" b="14168"/>
          <a:stretch/>
        </p:blipFill>
        <p:spPr>
          <a:xfrm>
            <a:off x="38088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5880" y="1371600"/>
            <a:ext cx="838440" cy="3808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ing biological information and knowledge from the literature into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model organism databases d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-consuming and susceptible to inconsist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 more and more necessary as the amount of computationally derived information increases (more need for bench-mark inform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95280" y="0"/>
            <a:ext cx="6248520" cy="6857640"/>
            <a:chOff x="1295280" y="0"/>
            <a:chExt cx="6248520" cy="6857640"/>
          </a:xfrm>
        </p:grpSpPr>
        <p:pic>
          <p:nvPicPr>
            <p:cNvPr id="102" name="" descr=""/>
            <p:cNvPicPr/>
            <p:nvPr/>
          </p:nvPicPr>
          <p:blipFill>
            <a:blip r:embed="rId1">
              <a:lum bright="-6000"/>
            </a:blip>
            <a:srcRect l="16876" t="5001" r="19376" b="10832"/>
            <a:stretch/>
          </p:blipFill>
          <p:spPr>
            <a:xfrm>
              <a:off x="1295280" y="0"/>
              <a:ext cx="6248520" cy="64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2">
              <a:lum bright="-6000"/>
            </a:blip>
            <a:srcRect l="16876" t="60836" r="19376" b="34529"/>
            <a:stretch/>
          </p:blipFill>
          <p:spPr>
            <a:xfrm>
              <a:off x="1295280" y="6499440"/>
              <a:ext cx="6248520" cy="358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16876" t="8332" r="20625" b="16668"/>
          <a:stretch/>
        </p:blipFill>
        <p:spPr>
          <a:xfrm>
            <a:off x="533520" y="0"/>
            <a:ext cx="761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6876" t="0" r="28127" b="8332"/>
          <a:stretch/>
        </p:blipFill>
        <p:spPr>
          <a:xfrm>
            <a:off x="17524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16876" t="0" r="19999" b="12502"/>
          <a:stretch/>
        </p:blipFill>
        <p:spPr>
          <a:xfrm>
            <a:off x="838080" y="0"/>
            <a:ext cx="65962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4266720" y="3428640"/>
            <a:ext cx="304920" cy="152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7503" r="13749" b="19168"/>
          <a:stretch/>
        </p:blipFill>
        <p:spPr>
          <a:xfrm>
            <a:off x="0" y="914400"/>
            <a:ext cx="89917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00400" y="3124080"/>
            <a:ext cx="914400" cy="2286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42502" b="27500"/>
          <a:stretch/>
        </p:blipFill>
        <p:spPr>
          <a:xfrm>
            <a:off x="990720" y="7632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flipV="1">
            <a:off x="5562720" y="3657240"/>
            <a:ext cx="38088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16876" t="0" r="19999" b="10832"/>
          <a:stretch/>
        </p:blipFill>
        <p:spPr>
          <a:xfrm>
            <a:off x="990720" y="0"/>
            <a:ext cx="64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oftware to the generic_pub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grate DB to Postgre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History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 Admin Web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compound annotation function (using multiple ter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gate approximate searching for term-article hi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3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m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is X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y Y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zad Mah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 Hu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as Mu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onore Re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ifen Zh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a Garcia-Herna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arna Mund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k Mosey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on Zoeck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mas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ie Tack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7880" y="762120"/>
            <a:ext cx="3334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G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on Twi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ng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jay Narayanas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an Brom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ie de la Cruz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Us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relevant papers according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papers according to X (primary tri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data to curate in a pa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relevant papers to curator for a data object (e.g. ge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ll genes that are described in new papers since the last c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tatus of a paper or a gene in the curation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ize the description of biological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to relevant attributes of object X from a list of papers that describ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 relevant database objects and their attributes from pape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Literature Cur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outside the domain of expertise of a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ly written papers and bad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and transparency of annotation methods/rules/guide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562" t="14584" r="14844" b="3125"/>
          <a:stretch/>
        </p:blipFill>
        <p:spPr>
          <a:xfrm>
            <a:off x="457200" y="762120"/>
            <a:ext cx="81532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9920" y="166680"/>
            <a:ext cx="79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terature Curaotors’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biocurator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0"/>
            <a:ext cx="8610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iterature Curation Meeting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day-Tuesday,October 27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 Genome Database, Milwaukee, W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Topics fo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input to c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on/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ion of sequenc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uration - e.g., gene families, splice vari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ore information go to bioucurator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mail sbromber@mcw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b Su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is part of the Pub Suite of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Fetch for literature download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Search for literature annotation (TAI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Track for curation tracking (RG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3127" t="14584" r="25782" b="3125"/>
          <a:stretch/>
        </p:blipFill>
        <p:spPr>
          <a:xfrm>
            <a:off x="1066680" y="762120"/>
            <a:ext cx="6934320" cy="6019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8280" y="166680"/>
            <a:ext cx="62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* Tools Webs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ttp://pubsearch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ub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eb application and database for literature c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complete literatur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, abstracts, full text articles (p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biological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, proteins, descri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s ontologies (GO Te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s literature, GO terms and biological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s manual curation with fast, automatic matching (using suffix trees indic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assword-protected, and easy to set up and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00:02:11Z</dcterms:created>
  <dc:creator>bmahini</dc:creator>
  <dc:description/>
  <dc:language>en-US</dc:language>
  <cp:lastModifiedBy>rhee</cp:lastModifiedBy>
  <dcterms:modified xsi:type="dcterms:W3CDTF">2003-09-16T13:46:02Z</dcterms:modified>
  <cp:revision>30</cp:revision>
  <dc:subject/>
  <dc:title>PubSearch</dc:title>
</cp:coreProperties>
</file>